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E5CD-2DF0-40F3-ACFB-B4427D9E1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3483-BBB5-488B-8C8B-6FC1128D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3350-6DD4-461A-B40C-26D950C46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7A65-E191-411E-96A9-B70064676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6FF4-0EE1-4484-804C-226168D8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0994-6BF9-487C-90B4-C95B0B68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62EF-B412-47F7-B25F-9C547716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DB52-80B0-4A6D-901D-98057418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87DD-F856-48FD-AFAF-914F2503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2BAA-3DB8-4ECD-8C38-0E9CB0FD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4474-1FA6-44A5-AAAE-EA242569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92DD-B6FB-46A3-9AC6-7C6F3124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20FD-7690-48AA-B912-99EC69CEE4B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alphaomega.jpg"/>
          <p:cNvPicPr/>
          <p:nvPr/>
        </p:nvPicPr>
        <p:blipFill>
          <a:blip r:embed="rId1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8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Practice 1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.2 THE FORM OF 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-142920" y="1285920"/>
            <a:ext cx="5000760" cy="47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se the following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μεμισηκ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κεκωλυμενου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επροφητευ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εφιληκα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βεβλεπ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ἀπολελυμενη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3143160" y="18399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rfect Act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5"/>
          <p:cNvSpPr/>
          <p:nvPr/>
        </p:nvSpPr>
        <p:spPr>
          <a:xfrm>
            <a:off x="3143160" y="2430360"/>
            <a:ext cx="507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rfect Middle/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Pass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articiple Masc. Acc.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6"/>
          <p:cNvSpPr/>
          <p:nvPr/>
        </p:nvSpPr>
        <p:spPr>
          <a:xfrm>
            <a:off x="3143160" y="3668760"/>
            <a:ext cx="59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rfect Middle/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Pass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7"/>
          <p:cNvSpPr/>
          <p:nvPr/>
        </p:nvSpPr>
        <p:spPr>
          <a:xfrm>
            <a:off x="3143160" y="429732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rfect Act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8"/>
          <p:cNvSpPr/>
          <p:nvPr/>
        </p:nvSpPr>
        <p:spPr>
          <a:xfrm>
            <a:off x="3143160" y="4902120"/>
            <a:ext cx="60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rfect Middle/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Pass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9"/>
          <p:cNvSpPr/>
          <p:nvPr/>
        </p:nvSpPr>
        <p:spPr>
          <a:xfrm>
            <a:off x="3143160" y="5524560"/>
            <a:ext cx="507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rfect Middle/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Pass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articiple Feminine Singular Accus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Practice 2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142920" y="1214280"/>
            <a:ext cx="492912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δουλοι ἀπολελυν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εμαρτυρηκα τῃ ἀληθει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ί πεποιηκα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πειρασμαι πολλα ἐτ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 προσκυνουμεν ἐν ἱερῳ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ᾠκοδμημενῳ ὑπο ἀνθρωπ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ὑποτετακται πονηρῳ κυρι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4643280" y="1998720"/>
            <a:ext cx="36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laves have been fr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4643280" y="2557440"/>
            <a:ext cx="44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have borne witness to the tru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4643280" y="3098880"/>
            <a:ext cx="36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at have you d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4643280" y="361332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have been tempted for many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4643280" y="4184640"/>
            <a:ext cx="464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 do not worship in a temple which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as been built by me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human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4643280" y="5272200"/>
            <a:ext cx="364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has been subjected to a wicked ma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Practice 3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142920" y="1214280"/>
            <a:ext cx="49291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εσωμεθα δια της ἀγαπης του 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στρατιωται κεκρατηκασιν τον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τρ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ick woman has been hea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word has been sent (us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μπ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   into the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 have done good th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urely you have not believed in Jes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4857840" y="1371600"/>
            <a:ext cx="36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 have been saved through the love of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57840" y="2479680"/>
            <a:ext cx="36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oldiers have arrested Pe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4857840" y="34797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ἡ ἀσθενης τεθεραπευ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4857840" y="4000680"/>
            <a:ext cx="43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λογος πεπεμπται εἰς τον κοσμον (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or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ν τῳ κοσμῳ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or just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ῳ κοσμῳ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4871880" y="5410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ποιηκαμεν τα ἀγαθ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5"/>
          <p:cNvSpPr/>
          <p:nvPr/>
        </p:nvSpPr>
        <p:spPr>
          <a:xfrm>
            <a:off x="4871880" y="5865840"/>
            <a:ext cx="41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η πεπιστευκας τῳ Ἰησου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Practice 4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241200" y="442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.3 MORE ON THE MEANING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52360" y="1479600"/>
            <a:ext cx="6176880" cy="38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ich Tense is appropriate for the underlined verb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I have lear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Gr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I have lear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my vocab every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he has been help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by the teac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hey ha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the b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y spok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o those who had see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i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6481800" y="2428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6467400" y="30020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6467400" y="361008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6481800" y="4222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486480" y="48243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14200" y="1285920"/>
            <a:ext cx="41148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which of the following would a pluperfect be us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he had arrived, they began to e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cribes said that the law had been brok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had believed but I do not any long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fter I believed I was happ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thought that the temple had been destr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4681440" y="2214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(Aorist particip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4684680" y="313848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(Indirect statement using Perfec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4687920" y="40323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676760" y="4967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(Aorist particip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4687920" y="55148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(Indirect statement using Perfec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Practice 5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.4 THE PLU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9:58:07Z</dcterms:created>
  <dc:creator>Sarah</dc:creator>
  <dc:description/>
  <dc:language>en-US</dc:language>
  <cp:lastModifiedBy>Sarah</cp:lastModifiedBy>
  <dcterms:modified xsi:type="dcterms:W3CDTF">2009-03-03T22:54:29Z</dcterms:modified>
  <cp:revision>17</cp:revision>
  <dc:subject/>
  <dc:title>Slide 1</dc:title>
</cp:coreProperties>
</file>